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26AF-57D5-4306-BBBD-846A61BDF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3DE2-5AE8-420F-BE01-20D4B3EE4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ED14-D61E-4F64-982A-6EBB8C3A8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0564-9280-471E-8D5B-96B636D99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D456F-5B28-4CB8-814A-63866A8BE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898E0-6551-4209-8781-39F1B8B4E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3635E-741F-481A-A9CC-9A6C52CAE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4FB7E-D0CC-4BCB-9D09-E02EF872A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85009-27E8-4D1E-ACFC-7E24C3898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E7E85-E0F2-4FBA-92A4-46D380003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A7C22-C3A4-4700-94A1-CB77A791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BD15-54ED-4DC3-8C8E-02D9BD801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EFA52-1AD9-4789-B16C-4C15F2AC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92F5E-D194-4E74-90A8-2F9CDC7C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D990A-0D9A-4872-91D9-34D81A7D1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87AE6-31A9-452B-96BF-73481F08C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8DEFD-BC0C-4C76-8128-A58D426F6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3B226-70B3-436C-A1DB-474D25F02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8FAEA-BE95-4A71-BC64-B2C09790A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96B18-7464-4C4D-AA28-4F0C4D39A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866B2-AD4E-469C-BF04-82EEE1136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9D2A2-6778-4616-BF11-450109E97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B0BE-9318-4C22-AD0F-87C429C08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F31ED-EEA8-4C32-B435-7B5A15966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4CA77-AE36-4A49-BB62-650788A7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63160-5C70-4682-995A-D3FEC1D5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8349B-5DEC-44B5-8CAD-76FBF84D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34722-357A-439C-8A40-6F1BE0E9A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22E31-96DA-4287-95C4-3C088AFA3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9F3A6-BEC5-4DEA-9FB3-8D7831C72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A756-8AFC-4C17-A7B3-0700ECBF3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F5F9-1FD2-4093-B834-77F823F67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B5D1-C4FD-4646-832B-B4A45752E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E13F-32C9-4436-B2E2-70A03CF4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AAE9-E5A8-4CC1-A07B-CC85090B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E875-C7B2-410D-AD63-C8DDFFFF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77A6B-C1D6-4338-BAC0-12FC863D09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0107F-43AE-4987-B380-1D54CB8123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5AFFD-4150-4524-8304-79A5E7165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ffffff"/>
                </a:solidFill>
                <a:latin typeface="Arial"/>
              </a:rPr>
              <a:t>Anakartla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Sistemin merkezi bileşenid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Üzerinde bakır yolların bulunduğu fiberglastan yapılmış levha şeklinded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Genişleme yuvaları, BIOS, ve çipsetler anakart üzerinde bulun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İşlemci, Bellek, arabirimler, fare klavye ve çeşitli PC arayüz kartları (modem, Ağ, ekran, ses vs.)anakart üzerine takılı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ffffff"/>
                </a:solidFill>
                <a:latin typeface="Arial"/>
              </a:rPr>
              <a:t>ATX Power Connecto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457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Standart ATX güç kablosu bilgisayarın güç kaynağından çıkar ve ATX anakartlardaki güç yuvalarına takılı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Bir alt versiyon AT güç kablosudu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788000" y="1413000"/>
            <a:ext cx="3097080" cy="2322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788000" y="3789360"/>
            <a:ext cx="309708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ffffff"/>
                </a:solidFill>
                <a:latin typeface="Arial"/>
              </a:rPr>
              <a:t>Chipse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386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Anakart üzerinde tümleşik olarak bulunan Chipset ses, ekran veya modemin anakart üzerinde bulunduğu durumlarda bu aygıtlardan birini ya da bir kaçını barındırırla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Chipsetin asıl görevi işlemci fonksiyonlarını kontrol etmekti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427640" y="1484280"/>
            <a:ext cx="3768480" cy="43210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435640" y="5877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İnternal mod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ffffff"/>
                </a:solidFill>
                <a:latin typeface="Arial"/>
              </a:rPr>
              <a:t>Chipse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İşlemcinin bellek erşim şekli ve sınırıyla ilgili mantıksal bilgiler Chipset üzerinde belirlen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Bazı Chipsetler yalnızca bir sınıf işlemciyi desteklerken, bazıları birden çok işlemciyle uyumlu çalışabil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ffffff"/>
                </a:solidFill>
                <a:latin typeface="Arial"/>
              </a:rPr>
              <a:t>CPU (Central Processing Unit) Socke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Tüm işlemci soketleri birbirlerine çok benzerler, soketleri birbirinden ayıran yanları Pin sayıları ve dizaynıdı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042920" y="3141720"/>
            <a:ext cx="2160720" cy="28796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3564000" y="3284640"/>
            <a:ext cx="4392720" cy="23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ffffff"/>
                </a:solidFill>
                <a:latin typeface="Arial"/>
              </a:rPr>
              <a:t>DIMM (Double Inline Memory Module) Slo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67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En yaygın kullanılan bellek slotlarıd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Diğer bellek slotları ise SIMM ve RIMM’d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aşlıca DIMM standartları PC100, PC133’dü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DDR Ram lerle kullanılan PC2700,PC3200, PC4300 standartları mevcutt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292720" y="1413000"/>
            <a:ext cx="24861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ffffff"/>
                </a:solidFill>
                <a:latin typeface="Arial"/>
              </a:rPr>
              <a:t>IDE (Integrated Drive Electronics) Connecto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74652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abit disk, CD sürücüler ve DVD sürücüler IDE kablosu aracılığla IDE yuvalarına bağlanı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716360" y="1484280"/>
            <a:ext cx="3456000" cy="20462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042920" y="4076640"/>
            <a:ext cx="2951280" cy="19987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4932360" y="35002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ffffff"/>
                </a:solidFill>
                <a:latin typeface="Arial"/>
              </a:rPr>
              <a:t>Floppy Drive Connecto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675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Disket sürücünün ankart üzerine bağlandığı yuvadı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Anakart üzerinde sadece 1 adet Disket sürücü yuvası bulun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356000" y="2708280"/>
            <a:ext cx="4056120" cy="30416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5292720" y="2205000"/>
            <a:ext cx="57636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356000" y="17733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ket Sürücü Yuvas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ffffff"/>
                </a:solidFill>
                <a:latin typeface="Arial"/>
              </a:rPr>
              <a:t>MotherBoard Batte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4033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Anakart üzerinde elektrik akımı olmadığı durumlarda bazı önemli bilgilerin tutulması amacıyla kullanılan çok küçük bir güce sahip pild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572000" y="1413000"/>
            <a:ext cx="3840120" cy="29527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 flipV="1">
            <a:off x="6948360" y="2421000"/>
            <a:ext cx="719280" cy="27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076720" y="515772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Bios Pi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ffffff"/>
                </a:solidFill>
                <a:latin typeface="Arial"/>
              </a:rPr>
              <a:t>BIOS(Basic Input Output System)Chi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38616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Anakarta Sistem açılışında gerekli olan bilgiler ve sistemin neleri desteklediği ile ilgili bilgiler mevcutt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572000" y="1413000"/>
            <a:ext cx="3527280" cy="47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ffffff"/>
                </a:solidFill>
                <a:latin typeface="Arial"/>
              </a:rPr>
              <a:t>PS/2 Connecto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31488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TX anakartlar üzerinde 2 adet PS/2 yuva bulunur. Biri mouse diğeri klavye içind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Genellikle farklı renktedirler.Bu renklerden yeşil olan mouse, mor olan klavye içind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500720" y="1413000"/>
            <a:ext cx="347472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ffffff"/>
                </a:solidFill>
                <a:latin typeface="Arial"/>
              </a:rPr>
              <a:t>Anakartla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Anakartlar genellikle desteklediği işlemci türünün ismi ile anılı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Günümüzde PIII, Pentium 4 anakart gibi deyimler kullanılmaktadı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ffffff"/>
                </a:solidFill>
                <a:latin typeface="Arial"/>
              </a:rPr>
              <a:t>USB (Universal Serial Bus) 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38616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Harici porttur. Aygıtı takıp çıkartırken bilgisayarı kapatma zorunluluğu yokt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Genellikle 2 USB port ve ekstra alternatif 2 kablo seçeneği ile üretilmekted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995640" y="1773360"/>
            <a:ext cx="441648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ffffff"/>
                </a:solidFill>
                <a:latin typeface="Arial"/>
              </a:rPr>
              <a:t>Paralel Port / COM (Comunications) Por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38616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arayıcı ve yazıcı bağlantıları için kullanıl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Paralel port üzerinden eğer 8 bit genişliğinde bir kanal kullanıyorsa bir seferde 8 bit veri gönderil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Com Portlar fare ve harici modem bağlantıları için kullanıl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140360" y="2133720"/>
            <a:ext cx="4055760" cy="30416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651640" y="1773360"/>
            <a:ext cx="72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211640" y="1341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Paralel 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5003280" y="3789360"/>
            <a:ext cx="863640" cy="17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084720" y="3789360"/>
            <a:ext cx="1079640" cy="17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427640" y="5661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COM 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ffffff"/>
                </a:solidFill>
                <a:latin typeface="Arial"/>
              </a:rPr>
              <a:t>Game Port / Sound Card Connecto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4578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Oyun portu ses kartları üzerinde yer alan seri bir porttur.ses kartı anakart üstünde bulunuyorsa oyun portuda anakart üzerinde bulunabil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Ses kartını chipset olarak bulunduğu durumlarda anakart üzerinde Sound Card Connectors bulun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067280" y="1484280"/>
            <a:ext cx="2663640" cy="19972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4067280" y="3573360"/>
            <a:ext cx="2736720" cy="20527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 flipH="1">
            <a:off x="5867280" y="1628640"/>
            <a:ext cx="1368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236000" y="13413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Game 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643280" y="2637000"/>
            <a:ext cx="266544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236000" y="242100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Çıkış/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5579640" y="3284640"/>
            <a:ext cx="180036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380360" y="3068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iriş/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6659640" y="3933720"/>
            <a:ext cx="792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380360" y="36450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krof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Anakart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713800" cy="64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8207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ffffff"/>
                </a:solidFill>
                <a:latin typeface="Arial"/>
              </a:rPr>
              <a:t>ISA (Industry Standart Architecture) Slo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62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ISA slotlar eski tip iç bağlantılarda modem,ses,ekran,ağ gibi bağlantılarda kullanılıyord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PCI ve AGP ye nazaran yavaş bir veriyoludu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Maksimum 8 MHz. Hızında çalışı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ISA 16 bit veriyoluna sahip olup, eşzamanlı olarak 16 bit veriye ulaşabili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859280" y="1484280"/>
            <a:ext cx="3132360" cy="41767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148360" y="566100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ISA S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ffffff"/>
                </a:solidFill>
                <a:latin typeface="Arial"/>
              </a:rPr>
              <a:t>PCI (Peripheral Component Interconnect) Slo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4249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PCI veriyolu Intel tarafından geliştirild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Anakart üzerinde 1 ile 6 arasında PCI slot bulunu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32 bit veriyolu kapasitesine sahip, 33MHz. Hızında çalışı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İşletim sistemlerinin Tak&amp;Çalıştır (Plug&amp;Play) özelliğini destekl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808520" y="1413000"/>
            <a:ext cx="3294000" cy="43923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003640" y="5877000"/>
            <a:ext cx="29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PCI S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ffffff"/>
                </a:solidFill>
                <a:latin typeface="Arial"/>
              </a:rPr>
              <a:t>AGP (Accelerated Graphics Port)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497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Özellikle Görüntü kartları için dizayn edilmişti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AGP 66 MHz 1x, 133 MHz  2x,              266 MHz 4x …hızlarıyla oldukça hızlı bir veriyolu hemde ana bellek ile daha çabuk iletişimi sağlayan bir porttu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32 bit kapasiteli , PCI 2.1 standartını kullanan ,Hızı 33 MHz yerine 66MHz’dir.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580000" y="1484280"/>
            <a:ext cx="2916360" cy="388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443640" y="5516640"/>
            <a:ext cx="20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AGP S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1T22:51:02Z</dcterms:created>
  <dc:creator>kocaeli univ</dc:creator>
  <dc:description/>
  <dc:language>en-US</dc:language>
  <cp:lastModifiedBy>YONETICI</cp:lastModifiedBy>
  <dcterms:modified xsi:type="dcterms:W3CDTF">2007-03-01T11:53:20Z</dcterms:modified>
  <cp:revision>9</cp:revision>
  <dc:subject/>
  <dc:title>Temel Donaným Bileþenleri</dc:title>
</cp:coreProperties>
</file>